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418-03EA-4D11-8DBB-1480A9D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990-1F72-4008-91BB-770B79F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364-12BA-40A1-B0FA-3BC15037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B97-264D-4BE9-A753-6A7A9C93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1FB-E196-40B8-9633-9C07B92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CFD-DA6A-443F-8BC0-DE5A012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EAB-404F-4447-B29F-434D4DF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B0C-57C7-4034-9CC3-5CF00D4B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2F9-AF71-4560-BB50-5F4E5E49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87-D832-44B7-A8A7-BCF37A3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D72-3FDC-4812-9492-975E164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C30-6696-49D0-A6AD-2140E0A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E57A-DB01-4E6F-A742-BFEC000E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Poet’s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 Questions – Complete the Response, and 1 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Literature:  What does Mr. Keating represent to the students of the Welton academy? (15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 – Choose 1 of 3: (200-3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o you see any parallels between the student’s life in Dead Poet’s Society and your ow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discussion in class, “Is ‘Good’ teaching good?  Or should teaching remain the way it was in the p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me how you felt about the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0:57:18Z</dcterms:created>
  <dc:creator>nmt</dc:creator>
  <dc:description/>
  <dc:language>en-US</dc:language>
  <cp:lastModifiedBy>nmt</cp:lastModifiedBy>
  <dcterms:modified xsi:type="dcterms:W3CDTF">2012-05-03T02:56:31Z</dcterms:modified>
  <cp:revision>4</cp:revision>
  <dc:subject/>
  <dc:title>Dead Poet’s Society</dc:title>
</cp:coreProperties>
</file>